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B11-39E3-49E9-9606-873ACB05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596-3A8D-4045-935D-94308250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1DDD-02EA-43C3-BC05-9ABFC960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369-0A25-463C-8441-FF6326C7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0D8-0ACB-423C-BE94-7768032D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3DC-7C2D-417D-A221-BEA0DC7E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9A9-1092-4EEC-BDD6-FA43C6B1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59E-EE4B-4D18-8AA9-52AB1F7E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9E4-18C7-45C4-9734-DAFF6C4D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2DB-249A-4824-8FEB-AC53F6D2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96F-6A05-4C7E-A5B5-2C8C01DE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2E9-108D-4778-83A4-18E4E908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B7D3-5385-4B18-987F-F72B5A8C1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RTP More Rel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 Presenter 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ter Da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Packets 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efault, this reduces to “TCP-style” reliability by depending on the previous sequenc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fine which types of packets are partially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dd logic to the sending queue to record the sequence number of the last packet on which these packets might dep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know if a dependency is satisf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a lis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received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good conditions, there is one contiguous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ckets are dropped, ranges are seg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dropped packets are recovered, ranges are me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ve we actually discovered an application of union-find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re packets recove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der keeps a buffer of recently sent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s are sent back to the sender requesting ranges of missing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der merges these ranges with requests from other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der rebroadcasts the packets if they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Packets Cannot Be Recove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re is no “ACK” after every packet, the sender must eventually discar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replies with “cut-off poi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equence number it has in its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ipi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 packets that depend on sequence numbers less than the cut-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a list of ranges of discarded packets and recursively discards sub-depen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Host Depend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a public display receives a student submission directly from a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 submission slide depends on information broadcast by the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dependencies are probably too complex to re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190512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We Ga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packets don’t get “hung up” on irrelevant dropped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-wide 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just for special cases like 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We L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ill worry about unrecoverabl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ould happen less frequently, so could be dealt with more harsh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ill worry about joining a presentation “l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Not Special-Case 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-cases are ugly when other components suffer from the sam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etting dependencies on all non-Ink packets to “0”, this proposal would be equivalent to a special-case on 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 very much mo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We Liv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liab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Well, may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r 2.0 does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Extr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eliabl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received out of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dro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efault, RTP has no mechanism to reorder packets or request “replacement”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Reliability (TCP-sty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cket has a sequenc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cket “depends” on the previous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dependency is unsatisfied, a message is sent requesting rebroadcast of the missing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ncoming packets are queued until replacement is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What’s the Be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u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lement a TCP-style control protocol on top of R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even a few existing RFCs on this subject to point us in the right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network reliability is always the safest choice from the application’s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does this make sense for Prese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not? [discuss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“Why No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ackets don’t “depend” on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 this really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to optimize responsiveness of certain features even during periods of poor network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opped packet shouldn’t hold up the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at types of packets are tru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ible Examples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 say “possible” because there might be unanticipated dependenc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lide transition message does not depend on ink still being broadcast to the previous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k doesn’t depend on slide imag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act, probably nothing depends on imag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does depend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istence of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istence of all of the slide’s annotation sheets (to ensure they’re layered in the correct or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istence of all previous ink strok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the same annotation she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gain, for rendering or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ce is much less common than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this a “premature optimization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opose we implement TCP-style control and 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modification that a packet does not only have to depend on the previous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can specify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quence number on which they “depen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“depend”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pendency is unsatisfied if the packet whose sequence number is specif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not been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ut-of-order packets reduce to this 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received but recursively has an unsatisfied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re dependencies resol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with unsatisfied dependencies are entered into a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dependent sequence number to a stack of dependen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ime a packet is received, the stack is fetched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new packet is in turn unsatisfied, it is pushed onto the stack and entered back into the table on its own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0:27:25Z</dcterms:created>
  <dc:creator>Peter Davis</dc:creator>
  <dc:description/>
  <dc:language>en-US</dc:language>
  <cp:lastModifiedBy>Peter Davis</cp:lastModifiedBy>
  <dcterms:modified xsi:type="dcterms:W3CDTF">2005-07-27T21:26:39Z</dcterms:modified>
  <cp:revision>20</cp:revision>
  <dc:subject/>
  <dc:title>Making RTP Reliable</dc:title>
</cp:coreProperties>
</file>